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E3EB-54F7-465B-9C81-AEE00FEC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8ED20-4B5B-47A1-82EC-FC2CCEDB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9649-BE13-4528-917A-B9ADF9D4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54733-4F3F-41AB-9ADB-700F6D8D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83BD-62D8-4CD8-83AA-DBABE38A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3691-B8D6-48DD-BB83-AFE96249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CCB1-647E-4DBF-85E5-35CEE559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8797-6DB2-4F30-95D2-3F8D0CFE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2087-66AF-4020-B0E4-0C09CD44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49D2-5538-44D8-B5BD-1F6BBDD7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D352-3829-43B5-A9F0-D03FE7B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1EB1-0C99-43BB-9DF8-23FB307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5A30-6BD7-4164-9213-E89ADB57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7173-B578-4CBC-9385-0E019587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7FDF-ED3B-44B4-9382-AF9C23D1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02AA-A9CF-421A-BFF9-2468D9E0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4D13-A759-4309-A886-AEFDEFA0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FF1B-0594-4487-A5DA-4D0683DA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BD39-7770-41E1-AB15-0C7C38B4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F9F4-0DCA-4BC5-9E8D-4DAC8C5F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54C9-0DB5-4608-86BC-FBD76DD7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2D87-861F-493D-87BB-7A4A4B43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7D0B-377D-4163-A270-19AEA25C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B48F-C1F8-4C10-9C0D-6ED2FFE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6578-F2A0-4162-92A6-2C59C127326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D6AB-9D03-46FF-AD99-9DCA1057BF5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77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91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Бог наш се грижи всеки д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малкото врабче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 колко повече Той м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в правда облеч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И малките цветя Той с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блича с красо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мен ще подари, аз зн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бесна чисто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Макар невидим да е Т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небесни висо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ак зорко от престола Св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д нас Бог вечно б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Велик е моят Бог блаж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колко е грижлив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ъка простира и към м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прави ме щастлив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7-24T15:53:17Z</dcterms:modified>
  <cp:revision>212</cp:revision>
  <dc:subject/>
  <dc:title>Slide 1</dc:title>
</cp:coreProperties>
</file>